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6DA92-5355-463A-A590-7DF03A04E01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40390-86D6-44E6-BB47-CD5300BA46C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A57C1-6F6E-40D8-BAF8-24F3F6BEA92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8DCF5-A994-49D4-A575-2989C6734FB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C3593-D1D5-42D7-BEAB-73402D9D8D4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05582-8462-4752-A3E5-AD80CC2EED5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0380-38BE-4891-AC9C-C3B45833ACB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8EFDC-CE48-4A9B-9787-CD068981B23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3574F-2F37-4A2E-A5AB-398A59F2D88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7B34F-02B0-4635-944D-407AF55FD54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D8735-D097-4C25-A94D-20A160FDD97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42B5-7A82-4926-94EE-69031DC12F1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4E6DD-2DF1-4828-B569-BCFB6A05987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698C5-969F-4D10-AC9A-0B914CB2433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620E9-530A-4C5A-85D9-F28F73C1C34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098A4-B8E1-4C40-9EEA-F968AC9247F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E6744-367D-4E18-989A-BD4E16237C4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FFF78-C838-4049-96D3-0C2C7AB82E5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9980-D6EF-4CDA-B244-D1CF32417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AE76-AB83-4D10-A3E8-6455379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4D81-AF12-4E78-8260-D67C23C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D1AD-8754-4C2A-9079-0A1D55F52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2A2D-B0A4-41A5-A042-6144E21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D271-BA98-4233-9F33-389DCF5E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74C5-90A6-429A-A9C3-58BDEDFD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CD32-5837-44FF-8AFF-02E53863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6611-D4FD-490E-8E33-74FFBC53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8F82-37C9-42A1-ABBA-97A38D4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950D-F6A0-406D-B6D5-6B49DD7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D71D-07B5-41C9-84D4-4055130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93A80-451C-4D71-ABF2-5E2E151B394C}" type="slidenum">
              <a:rPr b="0" lang="it-IT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743120" y="2192400"/>
            <a:ext cx="5429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1240" indent="-280800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CUOLA E CYBERBULLISM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modello di governan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079640" y="5975280"/>
            <a:ext cx="343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1280" y="431640"/>
            <a:ext cx="9110880" cy="77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NIZIONE PER IL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mministrativa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MMONI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rocedura previst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er “minorenni di età superiore agli anni quattrordici, quando commettono il fatto nei confronti di un altro minorenne”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o a quando non è proposta querela per il reato di cui all'art. 612 bis del codi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 penale (atti persecutori) la persona offesa può esporre i fatti all'autorità  di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blica sicurezza avanzando richiesta al questore di ammonimento nei confronti dell'autore della condotta. La richiesta è trasmessa senza ritardo al questore”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uestore, assunte se necessario informazioni dagli organi investigativi 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tite le persone informate dei fatti, ove ritenga fondata l'istanza, ammonisce oralmente il soggetto nei cui confronti è stato richiesto il provvedimento, invita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lo a tenere una condotta conforme alla legge e redigendo processo verbale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ia del processo verbale è rilasciata al richiedente l'ammonimento e al soggetto ammonito….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missi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8,c. 1 e 2 L.38/2009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stione aper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l fenomeno riguarda anche minorenni di età inferio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li anni quattordici ma la norma nulla prevede per questi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87280" y="503280"/>
            <a:ext cx="849636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732040" y="3311640"/>
            <a:ext cx="331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RIGENTE SCOLASTIC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0" y="792000"/>
            <a:ext cx="4680000" cy="2448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zione linee di indirizzo del Ptof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el Patto di corresponsabilità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ucativa che contemplin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dedicate 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d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4751280" y="792000"/>
            <a:ext cx="4176720" cy="2232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ssima informazione 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miglia di tutte le attività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iziative intrapres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ito web, altro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2952720" y="3676680"/>
            <a:ext cx="5111640" cy="28033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se con i servizi territoriali della salute,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izi sociali, forze dell'ordine, serviz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norili dell'amministrazione de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stizi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600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887640" y="1008000"/>
            <a:ext cx="18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959280" y="3600360"/>
            <a:ext cx="137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FERENT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216000" y="1440000"/>
            <a:ext cx="4248000" cy="2376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4680000" y="1368360"/>
            <a:ext cx="4103640" cy="2376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pporto al DS per revisione/stesur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regolamenti, atti 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0" y="3887640"/>
            <a:ext cx="4392720" cy="2448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oglie e diffonde buone pratich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ucative, organizzative e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aggio, favorend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elaborazione di un modello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-policy di istitu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824360" y="3959280"/>
            <a:ext cx="4032360" cy="2448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involge gli altri sogget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scuola, con particola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 agli studenti/ex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udenti (peer education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20720" y="1871640"/>
            <a:ext cx="3552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 iniziative di prevenzione e contrasto al cyberbullismo con collaborazione delle forze di polizia, associazioni e CAG presenti sul territori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44360" y="65372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87280" y="863640"/>
            <a:ext cx="885672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1 L.71/2017 comma 2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Le definizioni sono tratte dal dizionario Treccan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alsiasi forma di pres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zione o serie di azioni con le quali si cerca di influir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lla volontà altrui per ottenere qualche cosa (a cui s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bia o no diritto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gres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zione violenta di una o più persone nei confronti di altre persone, ch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racchiudere gli elementi costitutivi di diverse figure di reato, a se-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da del modo e dei mezzi con cui viene esercitata, dell'evento veri-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catosi o del fine cui è dirett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lest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Sensazione incresciosa di pena, di tormento, di incomodo, di disagio,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rritazione, provocata da persone o cose e in genere da tutto ciò che produ-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 un turbamento del benessere fisico o della tranquillità spiritu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a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si ipotizzano richieste di prestazioni sessuali o di condotte percepite com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agio dalla vittima. Da considerare che nel C.P. non esiste, il riferimento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l'estorsione art. 629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6000" y="431640"/>
            <a:ext cx="885672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1 L.71/2017 comma 2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izione illecit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ipol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ttamento illecito di dati personal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DANNO DI MINOREN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: vittime della condotta specifiche, caratterizzate d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à giovanile, che le rende particolarmente fragil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ALIZZATA PER VIA TELEM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in ciò consiste la specificità della condotta 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Sua distinzione rispetto agli atti di 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ché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usione di contenuti on line aventi ad oggetto anche uno o più componenti de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miglia del mino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1600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6000" y="863640"/>
            <a:ext cx="8856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1 L.71/2017 comma 2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CUI SCOPO INTENZIONALE E PREDOMINANT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Oval 2"/>
          <p:cNvSpPr/>
          <p:nvPr/>
        </p:nvSpPr>
        <p:spPr>
          <a:xfrm>
            <a:off x="576360" y="2922480"/>
            <a:ext cx="1655640" cy="8208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lo specific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Oval 3"/>
          <p:cNvSpPr/>
          <p:nvPr/>
        </p:nvSpPr>
        <p:spPr>
          <a:xfrm>
            <a:off x="4680000" y="2665440"/>
            <a:ext cx="3600360" cy="1295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mine non del C.P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to per limitare il più possibi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ambito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31640" y="4176720"/>
            <a:ext cx="4864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Sia quello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OLARE UN MINORE O UN GRUPPO DI MINOR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nendo in atto un serio abus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attacco dannos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la loro messa in ridicol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5111640" y="4751280"/>
            <a:ext cx="3527640" cy="20304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ortamenti tipicizzat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identificare in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reto in riferimento ad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o di questi comportamen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4680000" y="223200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1581120" y="2232000"/>
            <a:ext cx="2937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224000" y="2232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6036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936720" y="792000"/>
            <a:ext cx="797400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OSTRO LAVORO LABORATORI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disporre la parte del regolamento di istituto e la relativa tabella di sanzion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ciplinar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disporre l'adeguamento del patto di corresponsabilità educativ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sottoporre a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NI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di istituto è competenza del C.I. dove tutti gli attor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scuola sono rappresentati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itori, docenti, Ata, il dirigente scolastico e – nelle scuol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condarie di 2° grado – student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U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quanto più vengono coinvolti, tanto più si attivano e coinvolgon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pari (circolo virtuoso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empre a contatto con gli studenti, soprattutto i collaboratori scolastic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C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tutti, non solo quelli del C.I., per opera di sensibilizzazione, inform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zione e anche sdrammatizz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160720" y="576360"/>
            <a:ext cx="820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16000" y="1368360"/>
            <a:ext cx="8783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e di rea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TTO FORMALMENTE PREVISTO DA UNA LEGGE PENALE DELLO STAT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trattato dall'autorità giudiziaria penale (P.M. e Giudice) avvalendosi dei soggett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ei mezzi della procedura penale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zia giudiziari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dice pen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dice di procedura pen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fine di accertare la commissione di reati, individuarne gli autori, trarne le conseguenz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2072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87640" y="93672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lecito e rea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fatto illecito previsto e punito dalla legge penale art.1 c.p: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ullum crimen, nulla poena sine lege)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87640" y="2664000"/>
            <a:ext cx="208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venzione primaria/gener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i volte ad educare alla non commissione di illeci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scuola formazione e sensibilizzazione su tem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180040" y="2664000"/>
            <a:ext cx="237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ven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condaria/speci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i volte ad evitare la ripetizione di reati dopo una prima commiss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scuola: illeciti disciplinari: sanzione e motivazione al cambiamen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Line 4"/>
          <p:cNvSpPr/>
          <p:nvPr/>
        </p:nvSpPr>
        <p:spPr>
          <a:xfrm flipH="1">
            <a:off x="3021120" y="1295280"/>
            <a:ext cx="79848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Line 5"/>
          <p:cNvSpPr/>
          <p:nvPr/>
        </p:nvSpPr>
        <p:spPr>
          <a:xfrm>
            <a:off x="3816360" y="1295280"/>
            <a:ext cx="208764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4764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841480" y="836640"/>
            <a:ext cx="4156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Legge 71/2017: cyberbullismo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messa: distinzione tra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050920" y="30686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050920" y="45086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70000" y="2664000"/>
            <a:ext cx="419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YBERBULL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tra minorenn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664000" y="3456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16000" y="4098960"/>
            <a:ext cx="826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YBERHARASSME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yber molestia tra adulti o tra un adulto e un minoren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03280" y="6264360"/>
            <a:ext cx="2324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144360" y="576360"/>
            <a:ext cx="885672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egge n.71/2017: cyberbullismo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IPIZZ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ndividuazione dei comportamenti illeciti (eventualmente                                                reat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VEN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rt.3,c.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o di azione integr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Tavolo tecnico per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e contrasto: indicazione Ministeri coinvolti;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3,c.3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dice di co-regolament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prevenzion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contrasto per gli operatori della rete internet;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4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ur linee di orient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prevenzione e contrasto ne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cuola (previsto aggiornamento biennale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AutoShape 2"/>
          <p:cNvSpPr/>
          <p:nvPr/>
        </p:nvSpPr>
        <p:spPr>
          <a:xfrm flipV="1">
            <a:off x="144360" y="3097080"/>
            <a:ext cx="50328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AutoShape 3"/>
          <p:cNvSpPr/>
          <p:nvPr/>
        </p:nvSpPr>
        <p:spPr>
          <a:xfrm flipV="1">
            <a:off x="144360" y="1424880"/>
            <a:ext cx="43200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0360" y="604836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16000" y="863640"/>
            <a:ext cx="8712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8800" algn="ctr">
              <a:lnSpc>
                <a:spcPct val="100000"/>
              </a:lnSpc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NEE DI ORIENTAMENTO M.I.U.R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 algn="ctr">
              <a:lnSpc>
                <a:spcPct val="100000"/>
              </a:lnSpc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 art. 4  L.71/2017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 algn="ctr">
              <a:lnSpc>
                <a:spcPct val="100000"/>
              </a:lnSpc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 algn="just"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5960" y="1944720"/>
            <a:ext cx="67215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zione del personale scolastico (referent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mozione di ruolo attivo degli studen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involgimento di ex studenti già peer educator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DI SOSTEGNO       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isione d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DI RIEDUC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ficace sistema di governance Miur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dividuazione di un referente per istituto sco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romozione di bandi per finanziamento proget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reti di scuole da parte degli UU.SS.RR.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696000" y="4176720"/>
            <a:ext cx="205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minori coinvo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l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904000" y="403236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Line 5"/>
          <p:cNvSpPr/>
          <p:nvPr/>
        </p:nvSpPr>
        <p:spPr>
          <a:xfrm flipV="1">
            <a:off x="6264360" y="4385880"/>
            <a:ext cx="431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03280" y="208908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431640" y="2592360"/>
            <a:ext cx="432000" cy="71640"/>
          </a:xfrm>
          <a:prstGeom prst="rightArrow">
            <a:avLst>
              <a:gd name="adj1" fmla="val 50000"/>
              <a:gd name="adj2" fmla="val 150754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433440" y="3168720"/>
            <a:ext cx="503280" cy="71280"/>
          </a:xfrm>
          <a:prstGeom prst="rightArrow">
            <a:avLst>
              <a:gd name="adj1" fmla="val 50000"/>
              <a:gd name="adj2" fmla="val 176515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360360" y="5111640"/>
            <a:ext cx="576360" cy="71640"/>
          </a:xfrm>
          <a:prstGeom prst="rightArrow">
            <a:avLst>
              <a:gd name="adj1" fmla="val 100000"/>
              <a:gd name="adj2" fmla="val 9851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1728720" y="4102200"/>
            <a:ext cx="12956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1728720" y="4392720"/>
            <a:ext cx="1295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1600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0" y="936720"/>
            <a:ext cx="899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NZIONI DEL REFERENTE del cyberbullismo nelle scuo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ORDIN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ZIONI DI PREVENZIONE E CONTRAS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LLABOR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ALTRI SOGGET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Oval 2"/>
          <p:cNvSpPr/>
          <p:nvPr/>
        </p:nvSpPr>
        <p:spPr>
          <a:xfrm flipV="1" rot="10920000">
            <a:off x="5322960" y="1872720"/>
            <a:ext cx="2541600" cy="1603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668920" y="2014560"/>
            <a:ext cx="189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iste un fenomeno e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vedo le azioni pe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rmene car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Oval 4"/>
          <p:cNvSpPr/>
          <p:nvPr/>
        </p:nvSpPr>
        <p:spPr>
          <a:xfrm>
            <a:off x="71280" y="3311640"/>
            <a:ext cx="2417760" cy="21319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ze di polizia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.C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dF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.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zia loc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c..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Oval 5"/>
          <p:cNvSpPr/>
          <p:nvPr/>
        </p:nvSpPr>
        <p:spPr>
          <a:xfrm>
            <a:off x="2852640" y="3584520"/>
            <a:ext cx="1871640" cy="1800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sociazion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Oval 6"/>
          <p:cNvSpPr/>
          <p:nvPr/>
        </p:nvSpPr>
        <p:spPr>
          <a:xfrm>
            <a:off x="6048360" y="3672000"/>
            <a:ext cx="2448000" cy="18716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ntri di aggreg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ile d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ritori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164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31640" y="863640"/>
            <a:ext cx="8496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NIZIONE. Art. 5 legge 71/2017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vo che il fatto costituisca reato...”: quale reato? Uno di quelli che potrebbero rientrare nella categoria generalizzata dall'art. 1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S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 TEMPESTIVAMENTE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non frappone tempo, non assum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ggiamenti di attes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I?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soggetti esercenti la responsabilità genitoriale o i tutori de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NORI COINVOL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111640" y="3384720"/>
            <a:ext cx="2703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Autore del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Vittima del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959280" y="3593880"/>
            <a:ext cx="1152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Line 4"/>
          <p:cNvSpPr/>
          <p:nvPr/>
        </p:nvSpPr>
        <p:spPr>
          <a:xfrm>
            <a:off x="3959280" y="381636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52360" y="5040360"/>
            <a:ext cx="5438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ATTIVA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adeguate </a:t>
            </a: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AZIONI 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di </a:t>
            </a: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CARATTERE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EDUCATIV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8" name="Oval 6"/>
          <p:cNvSpPr/>
          <p:nvPr/>
        </p:nvSpPr>
        <p:spPr>
          <a:xfrm>
            <a:off x="1079640" y="4680000"/>
            <a:ext cx="5903640" cy="1295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V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egua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ATTERE EDUCATIV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8728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647640"/>
            <a:ext cx="181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Oval 2"/>
          <p:cNvSpPr/>
          <p:nvPr/>
        </p:nvSpPr>
        <p:spPr>
          <a:xfrm>
            <a:off x="216000" y="503280"/>
            <a:ext cx="4103640" cy="1295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olamento di istitut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4896000" y="576360"/>
            <a:ext cx="4032000" cy="1224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tto di corresponsabilità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ducativ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743280" y="1655640"/>
            <a:ext cx="43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4528800" y="1655640"/>
            <a:ext cx="9493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311640" y="2664000"/>
            <a:ext cx="277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EGUAMENTO con inserimento di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71280" y="3887640"/>
            <a:ext cx="4319640" cy="1656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FERIMENTO A CONDOTT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3816360" y="3456000"/>
            <a:ext cx="5327640" cy="2808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ZIONI DISCIPLINAR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URATE 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RAVITA' DEGLI ATT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IUTI (in chiave di giustizia riparativa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2658600" y="3363840"/>
            <a:ext cx="80172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4967280" y="3363840"/>
            <a:ext cx="64764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8728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13:33:10Z</dcterms:created>
  <dc:creator>Dirigente</dc:creator>
  <dc:description/>
  <dc:language>en-US</dc:language>
  <cp:lastModifiedBy>Monica Ducoli</cp:lastModifiedBy>
  <dcterms:modified xsi:type="dcterms:W3CDTF">2018-01-06T18:16:31Z</dcterms:modified>
  <cp:revision>80</cp:revision>
  <dc:subject/>
  <dc:title>Diapositiva 1</dc:title>
</cp:coreProperties>
</file>